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CE8-F44B-4839-A518-B6F0A046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5FA-7DA6-408D-8DB5-91E62BC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D03-D599-4B29-8EA7-DD04EE4F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4E4-5A95-4DEC-8560-D15CA0B0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E5C-89A2-476B-B1E5-3E83B15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C87-A7CD-4B92-951E-623DED7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086-A495-416D-A884-60FC0DA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784-DBE4-43AB-A26C-9CE4788E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6C2-999A-449B-8386-4DE9344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96D-4033-48DF-AA60-2C5CD49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8E9-C629-4275-8C65-3BB1334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D6D-C9F4-413A-8919-1733B1C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ED04-9364-4D4F-ABB9-D7FC51C8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urvey Experiments:  Illuminating Theoretical and Methodological Controvers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rold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PPS, University of Texas at D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mail: clarke475@ms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alues Battery Survey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ke’s Chance Encounter at Z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 With Max Ka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working on Har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how Macro-Economic Conditions Affect Responses to Inglehart’s Values 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aggregate results, but need to nail it at the individ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experi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work being done by Kaase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amples of Canadian &amp; German Electo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-Sampl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-One gets traditional Values Battery; Half-Two gets Values Battery with Unemployment item substituted for Inflation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nd of Canadian survey, ask other battery – Do people change their value classification in a 15-minute surve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gure 3. Alternative Values Batteries, Responses -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785960" y="1676520"/>
          <a:ext cx="557208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1676520"/>
                    <a:ext cx="55720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gure 4. Materialists &amp; Post-Materialists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ival Values Batteries -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1828800" y="1676520"/>
          <a:ext cx="541008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5410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sults &amp; Impl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 in Germa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portion of the hypothesized value shift an artifact of interaction between his measure and changing macroeconomic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Gaines’ et al. caveat in the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litical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xperiments can have big pay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ee Other Examples of Survey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Dynamics of Partisa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oes party identification have an individual dynamic?  One aspect of controversy concerns question wording – A task for survey experi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 Mode Matte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Do Traditional In-Person and Internet Election Studies Tell the Same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Endogeneity of Ideal Poi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veraging the Power of the Internet With a Feedback-to-Respondent Experiment to determine if “De Gustibus” is a viable psephological anthrop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ynamics of Partisa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standing Controvers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bell et al. v. Fiorina et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et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Richard Johnston &amp; Andre Blais said if only we changed the “or what?” in first ANES party id question to “or none of these” we would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ewer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re stable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rvey Experiment on Stability of Party Identification in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Half Samples in 2000-2002 Political Support in Canada Pane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alf Gets Traditional Wording; Other Half Gets Revised W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ewer identifiers with revised w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partisan stability almost exactly the s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tisan instability in both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experiment results reinforce MMLC analyses of US, UK, Canadian and German multi-wave panel data Clarke &amp; McCutche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9 and Stegmueller, Neundorf and Scott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gure 8.  Dynamics of Party Identification, 2000-2002 PSC Panel: Stable Identifiers Traditional and Revised Question Wor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133720" y="1986120"/>
          <a:ext cx="495288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86120"/>
                    <a:ext cx="49528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es Mode Matter? 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e Ideal Points Endogen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– see modecomp1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Points – see endogjepoprev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tility of Surve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experiments – increasingly popular over past 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as way to study causal processes that cannot be investigated with traditional cross-sectional &amp; pane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ation as cure for omitted variable biases &amp; endogeneity problems that bedevil causal inference in observation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experiments – external validity - sophomores in labs are not representa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 – truncated variance, small N’s,  functional form forgotten by ANOVA,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clusion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experiments are useful too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experiments can address big theoretical &amp; methodological controver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urveys put survey experiments “in reach” for many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P, CCES, CMS – example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trics – sophisticated platform – many universities subscribe – no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experiments not a pana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ongoing controversies over implications of endogenity of economic evaluations in party support and vot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resolve controversy with traditional cross-sectional or panel survey desig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experiments very unlikely to simulate real economic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 forward - use CMS monthly surveys 1997- 2010 &amp; VEC modeling –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ee Snar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ata Driven 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Necessaril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rvey Experiment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person probability surveys –  ANES, BES, G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-back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D telephone surveys – impact of TESS – NSF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urveys – general populations - BES Continuous Monitoring Survey (CMS), BES Rolling Campaign Panel Survey (RCPS), now 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urveys – specific populations – Survey Monkey, Qualtrics -&gt; e.g., students, employees, patients, party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 Mechanical Turk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ternet Surve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methodology – exciting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N’s – massive statis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pensive – vastly expand research opportunities – e.g.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tools – video, audio, feedback to respondents, intricate rand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ory &amp;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ink of experiments as theory or, at least, 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 of interest may concern measurement of 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measures may be affec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questions are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– question ordering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– political/econom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s, Kuklinski &amp; Quirk (2007) discuss the latter in terms of survey experiments, but it is of general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urvey experiments to investigate how external context affects survey responses or relationships among variables – cross-level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xternal Context Survey Experiment: Inglehart and Post-Mat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impact of macro-economic context on responses to Inglehart’s Materialism-Postmaterialism question battery in the Euro-Barometer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nglehart’s battery really measure what he says it d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is it contaminated by changing economic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is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glehart’s Value Shift Thesis &amp; His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Values 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lehart famously argued there has been a “value shift” from materialist to postmaterialism driven by rising affluence in post-war Western democracies.  Everybody jumped on this bandwag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-Item Values Battery administered in bi-annual Euro-Barometer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 Ris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Order in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eople More Say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Freedom of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pondents asked to select the most important, then select the next most important of the 3 remaining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gure 1. Why The Battery Might Be Affected by Macro-Economic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unempinf7497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gure 2. Germany – Canonical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bal"/>
          <p:cNvPicPr/>
          <p:nvPr/>
        </p:nvPicPr>
        <p:blipFill>
          <a:blip r:embed="rId1"/>
          <a:stretch/>
        </p:blipFill>
        <p:spPr>
          <a:xfrm>
            <a:off x="1295280" y="1279440"/>
            <a:ext cx="647712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22:11:24Z</dcterms:created>
  <dc:creator>Harold Clarke</dc:creator>
  <dc:description/>
  <dc:language>en-US</dc:language>
  <cp:lastModifiedBy>Jim Granato</cp:lastModifiedBy>
  <dcterms:modified xsi:type="dcterms:W3CDTF">2015-06-20T13:57:35Z</dcterms:modified>
  <cp:revision>64</cp:revision>
  <dc:subject/>
  <dc:title>Survey Experiments</dc:title>
</cp:coreProperties>
</file>